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dt" idx="1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ftr" idx="1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 type="sldNum" idx="1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65F18-CD2D-4A92-8930-A998C62189E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6B7C4-8B62-4797-A31A-E01C2997DF1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8D9E7-5BC7-41A4-B0EF-DAAACF049B5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BCD99-3037-42DB-8AFD-A35A5731354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08715-BCAD-42A6-A51F-E9B3A3525D1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6C9D1-F8F9-43B9-A495-D5F3492E2D3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E2765-FE05-4A1D-95F3-EB213528B5D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415EE-2E74-4679-ACB4-E11064A825E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34454-99BE-4FEA-960E-1139568FE7C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C78E-978A-4A6F-86DD-B09240A32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93EC-3EEE-45FC-95A6-877AF65DD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FC4B-BBFF-4C36-8BFD-1F46AF2A1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587E-5177-48AC-98B5-0ADFAF509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892DB-4A8B-4CB7-BFA3-112AA1D41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E85DF-E764-4178-B48E-1C135ACC3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26CD9-0217-4B94-911F-5745C7CEE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E9EAF-55DC-475E-B2DB-A68CBDEE3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AE5D1-D9A5-4FA3-9417-012FDA674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105C9-F005-44A7-8484-FDED3D5D0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635FD-4CD7-4632-BECE-5F4F4DC21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A445-DE90-45E3-94F8-A29F01976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6CBF5-4390-479F-888E-0D7C67FD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A150B-9274-4CC8-9093-639431553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09BAB-4C66-4881-AA55-C91BE662F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5FA9A-EA2A-491D-B891-52D7C20D0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77D3E-B262-4AF3-8990-0B34125F7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BD3B6-DDD0-43B8-B0F6-777FBABC3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8E1A6-974B-441F-A22A-08C4D72E9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0BAE7-D3BA-423A-8540-08CAAA10B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0E78B-A993-4D1C-8F77-1F1C31455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8253B-FEEC-4A8B-9169-E4D99D99A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DF1A-40EA-469E-A309-2FEDE1655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220D2-90E5-4249-9148-F45CDF604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46A86-DF4B-49B5-A9A8-806A82CE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E618C-E1B9-4CDF-A9AC-A83AF504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F3A7D-6E26-42B5-A0CD-84ADB610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0EB78-C8CC-45CA-B51A-414948800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6A5DD-7E51-4155-A46B-B83CA0933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DBA82-D1A6-4A5D-A43C-C4631758D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CBC0C-D429-4C29-8619-D59D153B5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8EAEB-06A5-48C0-BCE0-A41CB3AF6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E94A1-EFBA-4B1B-A4A7-BD306540B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FF5A-F5A4-4E9D-80F6-C6742B640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BD553-41F1-4E7D-8494-24269E4F1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BC33E-5F7D-45B2-ADD7-CFC9778A0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A11CD-B733-48E5-9869-048CF1223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9DC81-9C1C-4919-9DF8-2A3B8EE4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5269A-14B1-42FE-A12E-BB2D7963B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65D1C-C278-4C02-8487-2868FA59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D49BA-1782-4063-BFB7-20FEF090B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6BAF7-5BB5-4C1F-A251-7A994305A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143F6-0E0C-4DB5-BE9D-98440F9E0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894E53-5705-424D-9846-EAE61473D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25BA-0E6F-4EF4-A6F9-6134C820C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814DF-0B90-40EB-9DAF-E7C5FB260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9230B-B011-4A2C-8261-7D529A441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241E2-3FBF-404E-AB23-A754249EB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2CA6CE-FD23-4750-9553-63B2DE8FE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899A28-C050-44CA-A37A-2EF12CAFC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2857C-D428-400F-8A6F-DA4E6864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A730F-9F3F-4912-B66E-26D2CF5C9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51282-5036-442C-A5E1-93A46686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4D777D-73BD-4FC0-836A-431294F95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59F4F0-69C4-4AEF-822E-04FB667CC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CC4E-97E9-41A3-AFA6-18EFBC03E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04D18E-295A-4907-921C-F3C2363D9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04F6-E6E1-4381-B0CB-AE5D4294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E6C7-DB03-4AC6-9C61-8FC36BDFD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C119-E8FB-4509-AD1A-80DFCDBB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4200" y="5938920"/>
            <a:ext cx="3692520" cy="933480"/>
          </a:xfrm>
          <a:custGeom>
            <a:avLst/>
            <a:gdLst>
              <a:gd name="textAreaLeft" fmla="*/ 0 w 3692520"/>
              <a:gd name="textAreaRight" fmla="*/ 3692880 w 36925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7640" y="5788080"/>
            <a:ext cx="3422520" cy="1087560"/>
            <a:chOff x="-17640" y="5788080"/>
            <a:chExt cx="3422520" cy="108756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7640" y="5788080"/>
              <a:ext cx="3422520" cy="10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6480" y="6422040"/>
              <a:ext cx="1701720" cy="35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7640" y="5780160"/>
            <a:ext cx="3422880" cy="110016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6240" y="6408720"/>
            <a:ext cx="1920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D5CD5-FAA9-4598-BFBC-7C9FC84E28BA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5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3E078-4B02-419E-8E76-0A6B4C18643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726240" y="6408720"/>
            <a:ext cx="1920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C6FB2-87D9-4F52-ACE4-1FC5FB2122A4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5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FD1B1-27BD-448E-906E-8B90A8DDC07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Полилиния 11"/>
          <p:cNvSpPr/>
          <p:nvPr/>
        </p:nvSpPr>
        <p:spPr>
          <a:xfrm>
            <a:off x="484200" y="5938920"/>
            <a:ext cx="3692520" cy="933480"/>
          </a:xfrm>
          <a:custGeom>
            <a:avLst/>
            <a:gdLst>
              <a:gd name="textAreaLeft" fmla="*/ 0 w 3692520"/>
              <a:gd name="textAreaRight" fmla="*/ 3692880 w 36925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" name="Прямоугольный треугольник 13"/>
          <p:cNvGrpSpPr/>
          <p:nvPr/>
        </p:nvGrpSpPr>
        <p:grpSpPr>
          <a:xfrm>
            <a:off x="-17640" y="5788080"/>
            <a:ext cx="3422520" cy="1087560"/>
            <a:chOff x="-17640" y="5788080"/>
            <a:chExt cx="3422520" cy="1087560"/>
          </a:xfrm>
        </p:grpSpPr>
        <p:pic>
          <p:nvPicPr>
            <p:cNvPr id="91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7640" y="5788080"/>
              <a:ext cx="3422520" cy="10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276480" y="6422040"/>
              <a:ext cx="1701720" cy="35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3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7640" y="5780160"/>
            <a:ext cx="3422880" cy="11001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726240" y="6408720"/>
            <a:ext cx="1920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2D64C-8A02-49CD-AB2D-BD9341F0B279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5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04F71-6BE8-4BA9-ABE8-BC615372546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726240" y="6408720"/>
            <a:ext cx="1920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1F3E5-9F10-4E3E-AACD-14B34EB568BD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5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1DF56-0897-491F-97A2-5ACF262FBFF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Полилиния 15"/>
          <p:cNvSpPr/>
          <p:nvPr/>
        </p:nvSpPr>
        <p:spPr>
          <a:xfrm>
            <a:off x="484200" y="5938920"/>
            <a:ext cx="3692520" cy="933480"/>
          </a:xfrm>
          <a:custGeom>
            <a:avLst/>
            <a:gdLst>
              <a:gd name="textAreaLeft" fmla="*/ 0 w 3692520"/>
              <a:gd name="textAreaRight" fmla="*/ 3692880 w 36925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8" name="Прямоугольный треугольник 16"/>
          <p:cNvGrpSpPr/>
          <p:nvPr/>
        </p:nvGrpSpPr>
        <p:grpSpPr>
          <a:xfrm>
            <a:off x="-17640" y="5788080"/>
            <a:ext cx="3422520" cy="1087560"/>
            <a:chOff x="-17640" y="5788080"/>
            <a:chExt cx="3422520" cy="1087560"/>
          </a:xfrm>
        </p:grpSpPr>
        <p:pic>
          <p:nvPicPr>
            <p:cNvPr id="179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7640" y="5788080"/>
              <a:ext cx="3422520" cy="10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276480" y="6422040"/>
              <a:ext cx="1701720" cy="35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81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7640" y="5780160"/>
            <a:ext cx="3422880" cy="1100160"/>
          </a:xfrm>
          <a:prstGeom prst="rect">
            <a:avLst/>
          </a:prstGeom>
          <a:ln w="0">
            <a:noFill/>
          </a:ln>
        </p:spPr>
      </p:pic>
      <p:sp>
        <p:nvSpPr>
          <p:cNvPr id="182" name="Нашивка 19"/>
          <p:cNvSpPr/>
          <p:nvPr/>
        </p:nvSpPr>
        <p:spPr>
          <a:xfrm>
            <a:off x="8663040" y="4989600"/>
            <a:ext cx="183960" cy="228600"/>
          </a:xfrm>
          <a:custGeom>
            <a:avLst/>
            <a:gdLst>
              <a:gd name="textAreaLeft" fmla="*/ 0 w 183960"/>
              <a:gd name="textAreaRight" fmla="*/ 184320 w 1839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Нашивка 20"/>
          <p:cNvSpPr/>
          <p:nvPr/>
        </p:nvSpPr>
        <p:spPr>
          <a:xfrm>
            <a:off x="8477280" y="4989600"/>
            <a:ext cx="183960" cy="228600"/>
          </a:xfrm>
          <a:custGeom>
            <a:avLst/>
            <a:gdLst>
              <a:gd name="textAreaLeft" fmla="*/ 0 w 183960"/>
              <a:gd name="textAreaRight" fmla="*/ 184320 w 1839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6726240" y="6408720"/>
            <a:ext cx="1920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59F91-1B38-474E-9BAA-4C16469BCE4C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5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090AB-CA19-4CAF-9D69-D666CD1E5FE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Rectangle 2049" descr=""/>
          <p:cNvPicPr/>
          <p:nvPr/>
        </p:nvPicPr>
        <p:blipFill>
          <a:blip r:embed="rId2"/>
          <a:stretch/>
        </p:blipFill>
        <p:spPr>
          <a:xfrm>
            <a:off x="299880" y="1746360"/>
            <a:ext cx="8804520" cy="184284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2336760" y="4266720"/>
            <a:ext cx="6654960" cy="1752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46"/>
                </a:solidFill>
                <a:latin typeface="Times New Roman"/>
              </a:rPr>
              <a:t>Новоминское сельское поселение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Rectangle 18"/>
          <p:cNvSpPr/>
          <p:nvPr/>
        </p:nvSpPr>
        <p:spPr>
          <a:xfrm>
            <a:off x="8647200" y="6408720"/>
            <a:ext cx="36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631B1-2DE3-40D3-8E84-023A9CE376A2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Номер слайда 2"/>
          <p:cNvSpPr/>
          <p:nvPr/>
        </p:nvSpPr>
        <p:spPr>
          <a:xfrm>
            <a:off x="8647200" y="6408720"/>
            <a:ext cx="36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35EB8-AB9B-4C3F-823F-5A4C7621148A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Номер слайда 2"/>
          <p:cNvSpPr/>
          <p:nvPr/>
        </p:nvSpPr>
        <p:spPr>
          <a:xfrm>
            <a:off x="8647200" y="6408720"/>
            <a:ext cx="36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723B2-57F0-4546-84AA-F7A278D9294A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57200" y="5331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дготовлен на основе требований Бюджетного Кодекса Российской  Федерации, решения Совета Новоминского сельского поселения Каневского района «О бюджетном процессе в Новоминском сельском поселении Каневского района», иных законодательных,  нормативных правовых актов Российской Федерации, Краснодарского края и Совета Новоминского сельского поселения Каневского района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Номер слайда 4"/>
          <p:cNvSpPr/>
          <p:nvPr/>
        </p:nvSpPr>
        <p:spPr>
          <a:xfrm>
            <a:off x="8647200" y="6408720"/>
            <a:ext cx="36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B8D3D-8221-4F4E-9932-E926132F0C22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57200" y="8568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По данным Управления Федерального казначейства по 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Краснодарскому краю за 2017 год администрировало 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доходы местного бюджета на общую сумм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 50781,58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 тыс. рублей, а именно: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Налоговые и неналоговые доходы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40152,87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тыс.рублей, в том числе: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-Налог на доходы физических лиц- на сумму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12250,22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 тыс.рублей;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-Единый сельскохозяйственный налог- на сумму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5094,92 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тыс.рублей;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-Налог на имущество физических лиц – на сумму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2307,47 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тыс.рублей;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-Земельный налог- на сумму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15727,46 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тыс.рублей;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-Денежные взыскания и штрафы- на сумму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10,0 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тыс. 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рублей;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- Доходы от уплаты акцизов – на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сумму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4762,80 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тыс.рублей;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-Безвозмездные поступления –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10628,71 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тыс. рублей, в том числе: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- Прочие субсидии бюджетам сельских поселений - на 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сумму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9989,61 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тыс. рублей;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- Субвенции бюджетам поселений на осуществление первичного воинского учета на территориях, где 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осуществляют военные комиссариаты - на сумму 557,70 тыс. рублей;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- Субвенции бюджетам поселений на выполнение 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передаваемых полномочий - на сумму 7,6 тыс.рублей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ежбюджетные трансферты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, передаваемые бюджетам муниципальных образований на осуществление части полномочий порешению вопросов местного значения в соответствии с заключенными соглашениями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 - на сумму 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73,8 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тыс.рублей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Номер слайда 4"/>
          <p:cNvSpPr/>
          <p:nvPr/>
        </p:nvSpPr>
        <p:spPr>
          <a:xfrm>
            <a:off x="8647200" y="6408720"/>
            <a:ext cx="36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E6EE5-D5BE-431F-B838-2ACE9070BC4B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Rectangle 6" descr=""/>
          <p:cNvPicPr/>
          <p:nvPr/>
        </p:nvPicPr>
        <p:blipFill>
          <a:blip r:embed="rId2"/>
          <a:stretch/>
        </p:blipFill>
        <p:spPr>
          <a:xfrm>
            <a:off x="203040" y="171360"/>
            <a:ext cx="8477280" cy="138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0" name=""/>
          <p:cNvGraphicFramePr/>
          <p:nvPr/>
        </p:nvGraphicFramePr>
        <p:xfrm>
          <a:off x="609480" y="514440"/>
          <a:ext cx="8229600" cy="5692680"/>
        </p:xfrm>
        <a:graphic>
          <a:graphicData uri="http://schemas.openxmlformats.org/drawingml/2006/table">
            <a:tbl>
              <a:tblPr/>
              <a:tblGrid>
                <a:gridCol w="6305760"/>
                <a:gridCol w="1633320"/>
                <a:gridCol w="290520"/>
              </a:tblGrid>
              <a:tr h="5205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ссовое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не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2017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, всег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781,5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цизы по подакцизным товарам (продукции),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одимым на территории Российской Федерац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62,8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и на прибыль, доход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50,2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иный сельскохозяйственный налог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94,9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 на имущество физических лиц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07,4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мельный налог с организац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86,8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мельный налог с физических лиц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40,6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рафы, санкции, возмещение ущерб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возмездные поступл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628,7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1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60FD4-3225-4A2D-8E46-04BE6BABCE43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457200" y="1028880"/>
            <a:ext cx="868680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Фактическое исполнение и общие кассовые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асходы бюджетных ассигнований за 2017 год по  муниципальному образованию Новоминское сельское поселение Каневской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айон составили 62592,29 тыс.рублей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асходы были осуществлены по следующим разделам бюджетной классификации: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0100 «Общегосударственные вопросы»-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7560,00 тыс.рублей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0200 «Национальная оборона»- 557,7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тыс.рублей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0300 «Национальная безопасность и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авоохранительная деятельность»- 11,27 тыс.рублей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0400 «Национальная экономика»- 9043,65 тыс.рублей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0500 «ЖКХ»- 18471,60 тыс.рублей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0700 «Образование»- 120,78 тыс.рублей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0800 «Культура или кинематография»-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23939,47 тыс.рублей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1000 «Социальная политика»- 252,44 тыс.рублей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1100 «Физическая культура и спорт»- 2635,38 тыс.рублей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Номер слайда 4"/>
          <p:cNvSpPr/>
          <p:nvPr/>
        </p:nvSpPr>
        <p:spPr>
          <a:xfrm>
            <a:off x="8647200" y="6408720"/>
            <a:ext cx="36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8CE3C-2E59-47E2-9A9B-D7A0EE634D25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Rectangle 6" descr=""/>
          <p:cNvPicPr/>
          <p:nvPr/>
        </p:nvPicPr>
        <p:blipFill>
          <a:blip r:embed="rId2"/>
          <a:stretch/>
        </p:blipFill>
        <p:spPr>
          <a:xfrm>
            <a:off x="220680" y="452520"/>
            <a:ext cx="8477280" cy="64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5" name=""/>
          <p:cNvGraphicFramePr/>
          <p:nvPr/>
        </p:nvGraphicFramePr>
        <p:xfrm>
          <a:off x="507960" y="457200"/>
          <a:ext cx="8229600" cy="4943520"/>
        </p:xfrm>
        <a:graphic>
          <a:graphicData uri="http://schemas.openxmlformats.org/drawingml/2006/table">
            <a:tbl>
              <a:tblPr/>
              <a:tblGrid>
                <a:gridCol w="4291200"/>
                <a:gridCol w="1476360"/>
                <a:gridCol w="1477800"/>
                <a:gridCol w="984240"/>
              </a:tblGrid>
              <a:tr h="91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, утвержденный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ссовое исполне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испол-н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0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по поселению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760,9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592,2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государственные вопрос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31,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60,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оборона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7,7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7,7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2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экономи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76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43,6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лищно-коммунальное хозяйств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061,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471,6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,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,7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льтура, кинематограф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966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939,4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ая полити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6,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2,4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ая культура и спор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42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35,3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46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6C7A9-20C1-428A-883D-E7763090A8FB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457200" y="456840"/>
            <a:ext cx="8229600" cy="58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80800" indent="-19656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В 2017 году были приняты следующие целевые программы: 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1. Муниципальная программа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«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Развитие деятельности органов местного самоуправления Новоминского сельского поселения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»-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1425,70 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тыс. 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. Муниципальная программа «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Поддержка и развитие Кубанского к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азачеств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а на территории Новоминского 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сельского поселения Каневского района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на 2016-2018 годы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» -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25,00 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тыс. 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. Муниципальная программа «Пожарная безопасность в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Новоминском 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сельском поселении Каневского района»-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12,00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 тыс. 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. Муниципальная программа «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Развитие сельского хозяйства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» -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43,80 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тыс. 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. Муниципальная программа «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Развитие и содержание дорожного хозяйства Новоминского сельского поселения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»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- 8954,30 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тыс. 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.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ГП Краснодарского края «Развитие сети автомобильных дорог Краснодарского края в 2017 году» - 1329,5 тыс.рублей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. Муниципальная программа «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Улучшение качества обслуживания и содержания дорог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» -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93,10 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тыс. 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. Муниципальная программа «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Развитие Новоминского сельского поселения Каневского района в сфере строительства, архитектуры, землеустройства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» -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211,30 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тыс. 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. Муниципальная программа «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Развитие газоснабжения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» -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139,70 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тыс. 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10.Муниципальная программа «Увеличение уставного фонда МУП Новоминского сельского поселения Каневского района «Благоустройство» для его финансового оздоровления» - 4000,0 тыс.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11.Муниципальная программа «Газификация ул.Советской в ст.Новоминской» - 375,90 тыс.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12.Муниципальная программа «Осуществление мероприятий по улучшению водоснабжения» - 332,30 тыс.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13.Муниципальная программа «Развитие благоустройства в Новоминском сельском поселении Каневского района» - 11011,60 тыс.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14.Муниципальная программа «Содействие в обеспечении платежей за электроэнергию ресурсоснабжающей организации с целью бесперебойного снабжения водой жителей Новоминского сельского поселения» - 1701,50 тыс.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15.Муниципальная программа «Развитие молодежной политики в Новоминском сельском поселении» - 128,00 тыс.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16.Муниципальная программа «Развитие культуры и кинематографии в Новоминском сельском поселении Каневского района» - 20186,10 тыс.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17.Муниципальная программа «Развитие библиотечной системы в Новоминском сельском поселении Каневского района»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18.Муниципальная программа «Празднование Дня Победы в Новоминском сельском поселении в 2017 году» - 150,00 тыс.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19.Муниципальная программа «Издание книги «Мыза ценой не постоим» - 130,00 тыс.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20.Муниципальная программа «Фонд социальной поддержки населения» - 110,00 тыс.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21.Муниципальная программа «Развитие физической культуры и спорта» - 2511,50 тыс.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22.Муниципальная программа «Развитие велосипедного спорта в Новоминском сельском поселении»- 60,00 тыс.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23.Муниципальная программа «Популяризация спортивных единоборств в Новоминском сельском поселении» - 11,00 тыс.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24.Муниципальная программа «Популяризация футбола в Новоминском сельском поселении» - 60,00 тыс.рублей.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8" name="Номер слайда 4"/>
          <p:cNvSpPr/>
          <p:nvPr/>
        </p:nvSpPr>
        <p:spPr>
          <a:xfrm>
            <a:off x="8647200" y="6408720"/>
            <a:ext cx="36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D7C0D-FA31-4942-8F26-180950A40FF2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Номер слайда 2"/>
          <p:cNvSpPr/>
          <p:nvPr/>
        </p:nvSpPr>
        <p:spPr>
          <a:xfrm>
            <a:off x="8647200" y="6408720"/>
            <a:ext cx="36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F34E4-4508-40B3-B5E6-A7191AE1B0AB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457200" y="456840"/>
            <a:ext cx="8229600" cy="582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Номер слайда 4"/>
          <p:cNvSpPr/>
          <p:nvPr/>
        </p:nvSpPr>
        <p:spPr>
          <a:xfrm>
            <a:off x="8647200" y="6408720"/>
            <a:ext cx="36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DCFEE-CB64-4556-8ED3-1AFACB307011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alogovik</dc:creator>
  <dc:description/>
  <dc:language>en-US</dc:language>
  <cp:lastModifiedBy>ГЫУК</cp:lastModifiedBy>
  <dcterms:modified xsi:type="dcterms:W3CDTF">2019-10-18T05:57:02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